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11.jpeg" ContentType="image/jpeg"/>
  <Override PartName="/ppt/media/image4.png" ContentType="image/png"/>
  <Override PartName="/ppt/media/image27.png" ContentType="image/png"/>
  <Override PartName="/ppt/media/image6.wmf" ContentType="image/x-wmf"/>
  <Override PartName="/ppt/media/image12.png" ContentType="image/png"/>
  <Override PartName="/ppt/media/image20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wmf" ContentType="image/x-wmf"/>
  <Override PartName="/ppt/media/image13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25.png" ContentType="image/png"/>
  <Override PartName="/ppt/media/image29.jpeg" ContentType="image/jpeg"/>
  <Override PartName="/ppt/media/image3.wmf" ContentType="image/x-wmf"/>
  <Override PartName="/ppt/media/image2.png" ContentType="image/png"/>
  <Override PartName="/ppt/media/image32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D15D-3546-4EC1-8D65-DF017FBD0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0DC0-9ACA-4DEB-BF71-774EB0B3D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rrowed Circle takes you back to the Title Resourc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71D3-4729-4DB8-9DD8-B531F2C6B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 image is 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streaming of educational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00 hours of educational program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episodes of Reading 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 educational serie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rrowed Circle takes you back to the Title Resourc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1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36E2-2DB3-4B45-96E0-AB644E678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r inf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E9D9-5C3A-4A72-9F4C-B872B47A4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9D44-D47D-48B6-8F8B-8FF749587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74C6-ABAB-47DE-B7EA-02F0DFA10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B3EC-D91D-4B8E-A89D-AB1F2455F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2AE4-DD07-4B38-9013-A977C4590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5A21-D15A-4B31-8B23-D9C4A3F1D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AECF-466B-4033-A384-2C4351D6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0A4-5728-4105-913C-746AD122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A16-BF17-4F53-877F-70902622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BEFD-0BBE-41BA-8B4C-4CBB033D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333C-C5CE-4D74-B935-72B03014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FA1D-E5C2-4BA4-A7BD-6FB65800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D571-7D83-4F72-B39B-D767D1E0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514B-85A9-4584-A417-1988E5D5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7D40-DA71-45C5-92CA-01CACED3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D02A-17C3-4AD5-9423-3BC742DB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056B-256A-4CDB-A37B-86720E8E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230E-5A91-4419-B9B1-91B8D098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E650-F2B7-4A75-82FE-50FCA03D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FBFF-4EF3-40A9-9EF1-B4C266AF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1F42-67D1-4F89-88AF-B78C7CA2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31BF-0FBA-4797-ADE9-769F7992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52B0-E105-4F50-894E-072FD676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EDE7-4523-4116-B5C2-0BCB7B13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8D04B-D46C-4E4F-B8DB-DA79F747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E247D-7C5C-4B4B-8507-6B2CA4D5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F8330-C624-4A17-951B-6E53E4AD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A445-11D6-4278-BBE4-0AFECC96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A0744-247B-4C78-856F-E2478099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7FF65-21D8-491A-9961-2E98E7AD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61524-ED3F-4BDE-9683-52060D44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7A888-A17F-4587-BBA6-8766544E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B0BDF-E321-44B3-8877-67D2E222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1E984-B58F-4272-94B2-1B116488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3E04A-F765-4CFD-8571-19489BC0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17D79-1A21-4EDD-AA97-BB0B1E9D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23778-A159-4F6B-A836-D823CD34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2B8-091E-4718-A8A3-297BFFB1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5492-8A33-4B5D-B5AD-351CE4A8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9227-79C7-470E-B4E7-29DC71E8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EFE4-160C-4406-85FD-733A026B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4198-C56F-4381-80C0-12EA642A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63DF-8962-4164-9E8D-2D7843E86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B509-8902-4D4A-913A-784ECBAE5D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43A3-3351-43FC-98E8-1869681B5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3.xml"/><Relationship Id="rId3" Type="http://schemas.openxmlformats.org/officeDocument/2006/relationships/slide" Target="slide17.xml"/><Relationship Id="rId4" Type="http://schemas.openxmlformats.org/officeDocument/2006/relationships/slide" Target="slide16.xml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ket.org/education" TargetMode="External"/><Relationship Id="rId2" Type="http://schemas.openxmlformats.org/officeDocument/2006/relationships/slide" Target="slide5.xml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hyperlink" Target="http://www.ket.org/trips" TargetMode="External"/><Relationship Id="rId13" Type="http://schemas.openxmlformats.org/officeDocument/2006/relationships/hyperlink" Target="http://www.ket.org/newsquiz" TargetMode="External"/><Relationship Id="rId14" Type="http://schemas.openxmlformats.org/officeDocument/2006/relationships/hyperlink" Target="http://www.ket.org/lincoln" TargetMode="External"/><Relationship Id="rId15" Type="http://schemas.openxmlformats.org/officeDocument/2006/relationships/hyperlink" Target="http://www.ket.org/nationalparks" TargetMode="External"/><Relationship Id="rId16" Type="http://schemas.openxmlformats.org/officeDocument/2006/relationships/hyperlink" Target="http://www.ket.org/arts" TargetMode="External"/><Relationship Id="rId17" Type="http://schemas.openxmlformats.org/officeDocument/2006/relationships/hyperlink" Target="http://www.ket.org/educationmatters" TargetMode="External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et.org/encyclomedia" TargetMode="External"/><Relationship Id="rId2" Type="http://schemas.openxmlformats.org/officeDocument/2006/relationships/image" Target="../media/image2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mooreketresources.wikispaces.com/" TargetMode="External"/><Relationship Id="rId2" Type="http://schemas.openxmlformats.org/officeDocument/2006/relationships/image" Target="../media/image6.wmf"/><Relationship Id="rId3" Type="http://schemas.openxmlformats.org/officeDocument/2006/relationships/hyperlink" Target="http://www.lmooreketresources.wikispaces.com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ket.org/education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hyperlink" Target="http://www.mission-us.org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4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gency FB"/>
              </a:rPr>
              <a:t>Exploring the Depths! KET’s New Online Resources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2" name="Action Button: Custom 5">
            <a:hlinkClick r:id="rId2" action="ppaction://hlinksldjump"/>
          </p:cNvPr>
          <p:cNvSpPr/>
          <p:nvPr/>
        </p:nvSpPr>
        <p:spPr>
          <a:xfrm>
            <a:off x="3505320" y="2286000"/>
            <a:ext cx="3124080" cy="4572000"/>
          </a:xfrm>
          <a:custGeom>
            <a:avLst/>
            <a:gdLst>
              <a:gd name="textAreaLeft" fmla="*/ 202320 w 3124080"/>
              <a:gd name="textAreaRight" fmla="*/ 2921760 w 3124080"/>
              <a:gd name="textAreaTop" fmla="*/ 202320 h 4572000"/>
              <a:gd name="textAreaBottom" fmla="*/ 4369680 h 4572000"/>
            </a:gdLst>
            <a:ahLst/>
            <a:rect l="textAreaLeft" t="textAreaTop" r="textAreaRight" b="textAreaBottom"/>
            <a:pathLst>
              <a:path w="21600" h="31610">
                <a:moveTo>
                  <a:pt x="0" y="0"/>
                </a:moveTo>
                <a:lnTo>
                  <a:pt x="21600" y="0"/>
                </a:lnTo>
                <a:lnTo>
                  <a:pt x="21600" y="31610"/>
                </a:lnTo>
                <a:lnTo>
                  <a:pt x="0" y="31610"/>
                </a:lnTo>
                <a:close/>
              </a:path>
              <a:path fill="lightenLess" w="21600" h="3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610">
                <a:moveTo>
                  <a:pt x="21600" y="0"/>
                </a:moveTo>
                <a:lnTo>
                  <a:pt x="21600" y="31610"/>
                </a:lnTo>
                <a:lnTo>
                  <a:pt x="20200" y="30210"/>
                </a:lnTo>
                <a:lnTo>
                  <a:pt x="20200" y="1400"/>
                </a:lnTo>
                <a:close/>
              </a:path>
              <a:path fill="darkenLess" w="21600" h="31610">
                <a:moveTo>
                  <a:pt x="21600" y="31610"/>
                </a:moveTo>
                <a:lnTo>
                  <a:pt x="0" y="31610"/>
                </a:lnTo>
                <a:lnTo>
                  <a:pt x="1400" y="30210"/>
                </a:lnTo>
                <a:lnTo>
                  <a:pt x="20200" y="30210"/>
                </a:lnTo>
                <a:close/>
              </a:path>
              <a:path fill="lighten" w="21600" h="31610">
                <a:moveTo>
                  <a:pt x="0" y="3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302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3" name="Action Button: Custom 6">
            <a:hlinkClick r:id="rId3" action="ppaction://hlinksldjump"/>
          </p:cNvPr>
          <p:cNvSpPr/>
          <p:nvPr/>
        </p:nvSpPr>
        <p:spPr>
          <a:xfrm>
            <a:off x="6781680" y="2286000"/>
            <a:ext cx="2362320" cy="4572000"/>
          </a:xfrm>
          <a:custGeom>
            <a:avLst/>
            <a:gdLst>
              <a:gd name="textAreaLeft" fmla="*/ 153000 w 2362320"/>
              <a:gd name="textAreaRight" fmla="*/ 2209320 w 2362320"/>
              <a:gd name="textAreaTop" fmla="*/ 153000 h 4572000"/>
              <a:gd name="textAreaBottom" fmla="*/ 4419000 h 4572000"/>
            </a:gdLst>
            <a:ahLst/>
            <a:rect l="textAreaLeft" t="textAreaTop" r="textAreaRight" b="textAreaBottom"/>
            <a:pathLst>
              <a:path w="21600" h="41801">
                <a:moveTo>
                  <a:pt x="0" y="0"/>
                </a:moveTo>
                <a:lnTo>
                  <a:pt x="21600" y="0"/>
                </a:lnTo>
                <a:lnTo>
                  <a:pt x="21600" y="41801"/>
                </a:lnTo>
                <a:lnTo>
                  <a:pt x="0" y="41801"/>
                </a:lnTo>
                <a:close/>
              </a:path>
              <a:path fill="lightenLess" w="21600" h="4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801">
                <a:moveTo>
                  <a:pt x="21600" y="0"/>
                </a:moveTo>
                <a:lnTo>
                  <a:pt x="21600" y="41801"/>
                </a:lnTo>
                <a:lnTo>
                  <a:pt x="20200" y="40401"/>
                </a:lnTo>
                <a:lnTo>
                  <a:pt x="20200" y="1400"/>
                </a:lnTo>
                <a:close/>
              </a:path>
              <a:path fill="darkenLess" w="21600" h="41801">
                <a:moveTo>
                  <a:pt x="21600" y="41801"/>
                </a:moveTo>
                <a:lnTo>
                  <a:pt x="0" y="41801"/>
                </a:lnTo>
                <a:lnTo>
                  <a:pt x="1400" y="40401"/>
                </a:lnTo>
                <a:lnTo>
                  <a:pt x="20200" y="40401"/>
                </a:lnTo>
                <a:close/>
              </a:path>
              <a:path fill="lighten" w="21600" h="41801">
                <a:moveTo>
                  <a:pt x="0" y="4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040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4" name="Action Button: Custom 7">
            <a:hlinkClick r:id="rId4" action="ppaction://hlinksldjump"/>
          </p:cNvPr>
          <p:cNvSpPr/>
          <p:nvPr/>
        </p:nvSpPr>
        <p:spPr>
          <a:xfrm>
            <a:off x="0" y="2286000"/>
            <a:ext cx="3276720" cy="4572000"/>
          </a:xfrm>
          <a:custGeom>
            <a:avLst/>
            <a:gdLst>
              <a:gd name="textAreaLeft" fmla="*/ 212040 w 3276720"/>
              <a:gd name="textAreaRight" fmla="*/ 3064680 w 3276720"/>
              <a:gd name="textAreaTop" fmla="*/ 212040 h 4572000"/>
              <a:gd name="textAreaBottom" fmla="*/ 4359960 h 457200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8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8"/>
                </a:lnTo>
                <a:lnTo>
                  <a:pt x="20200" y="28738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5" name="Picture 9" descr="C:\Documents and Settings\larry.moore.KET\Local Settings\Temporary Internet Files\Content.IE5\TQ7TJME1\MC900024568[1].wmf"/>
          <p:cNvPicPr/>
          <p:nvPr/>
        </p:nvPicPr>
        <p:blipFill>
          <a:blip r:embed="rId5"/>
          <a:stretch/>
        </p:blipFill>
        <p:spPr>
          <a:xfrm rot="19235400">
            <a:off x="4638600" y="874440"/>
            <a:ext cx="3738600" cy="2747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"/>
          <p:cNvPicPr/>
          <p:nvPr/>
        </p:nvPicPr>
        <p:blipFill>
          <a:blip r:embed="rId6"/>
          <a:stretch/>
        </p:blipFill>
        <p:spPr>
          <a:xfrm>
            <a:off x="2438280" y="4194000"/>
            <a:ext cx="1122480" cy="987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"/>
          <p:cNvPicPr/>
          <p:nvPr/>
        </p:nvPicPr>
        <p:blipFill>
          <a:blip r:embed="rId7"/>
          <a:stretch/>
        </p:blipFill>
        <p:spPr>
          <a:xfrm>
            <a:off x="1371600" y="4267080"/>
            <a:ext cx="762120" cy="6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Other Specialized KET Instructional Websites</a:t>
            </a:r>
            <a:br>
              <a:rPr sz="2800"/>
            </a:b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 Black"/>
                <a:hlinkClick r:id="rId1"/>
              </a:rPr>
              <a:t>www.ket.org/education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T Electronic Field Trips: www.ket.org/tr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sQuiz: http://www.ket.org/news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coln “ I Too am a Kentuckian”:  http://www.ket.org/lincoln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ntucky’s National Parks: http://www.ket.org/nationalpark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T Arts Page: http://www.ket.org/art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ucation Matters: http://www.ket.org/educationmatter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link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324480"/>
            <a:ext cx="493920" cy="427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4"/>
          <a:stretch/>
        </p:blipFill>
        <p:spPr>
          <a:xfrm>
            <a:off x="457200" y="4191120"/>
            <a:ext cx="2286000" cy="1218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5"/>
          <a:stretch/>
        </p:blipFill>
        <p:spPr>
          <a:xfrm>
            <a:off x="3048120" y="4191120"/>
            <a:ext cx="2361960" cy="1218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6"/>
          <a:stretch/>
        </p:blipFill>
        <p:spPr>
          <a:xfrm>
            <a:off x="5715000" y="4191120"/>
            <a:ext cx="2362320" cy="1218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7"/>
          <a:stretch/>
        </p:blipFill>
        <p:spPr>
          <a:xfrm>
            <a:off x="457200" y="5486400"/>
            <a:ext cx="2262240" cy="121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"/>
          <p:cNvPicPr/>
          <p:nvPr/>
        </p:nvPicPr>
        <p:blipFill>
          <a:blip r:embed="rId8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"/>
          <p:cNvPicPr/>
          <p:nvPr/>
        </p:nvPicPr>
        <p:blipFill>
          <a:blip r:embed="rId9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"/>
          <p:cNvPicPr/>
          <p:nvPr/>
        </p:nvPicPr>
        <p:blipFill>
          <a:blip r:embed="rId10"/>
          <a:stretch/>
        </p:blipFill>
        <p:spPr>
          <a:xfrm>
            <a:off x="3048120" y="5486400"/>
            <a:ext cx="2361960" cy="1219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"/>
          <p:cNvPicPr/>
          <p:nvPr/>
        </p:nvPicPr>
        <p:blipFill>
          <a:blip r:embed="rId11"/>
          <a:stretch/>
        </p:blipFill>
        <p:spPr>
          <a:xfrm>
            <a:off x="5715000" y="5486400"/>
            <a:ext cx="2362320" cy="11430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5"/>
          <p:cNvSpPr/>
          <p:nvPr/>
        </p:nvSpPr>
        <p:spPr>
          <a:xfrm>
            <a:off x="5791320" y="5410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ush Script Std"/>
              </a:rPr>
              <a:t>Arts on KET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3" name="Action Button: Custom 16">
            <a:hlinkClick r:id="rId12"/>
          </p:cNvPr>
          <p:cNvSpPr/>
          <p:nvPr/>
        </p:nvSpPr>
        <p:spPr>
          <a:xfrm>
            <a:off x="3581280" y="1752480"/>
            <a:ext cx="2057400" cy="304920"/>
          </a:xfrm>
          <a:custGeom>
            <a:avLst/>
            <a:gdLst>
              <a:gd name="textAreaLeft" fmla="*/ 19440 w 2057400"/>
              <a:gd name="textAreaRight" fmla="*/ 2037960 w 2057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5596" h="21600">
                <a:moveTo>
                  <a:pt x="0" y="0"/>
                </a:moveTo>
                <a:lnTo>
                  <a:pt x="145596" y="0"/>
                </a:lnTo>
                <a:lnTo>
                  <a:pt x="145596" y="21600"/>
                </a:lnTo>
                <a:lnTo>
                  <a:pt x="0" y="21600"/>
                </a:lnTo>
                <a:close/>
              </a:path>
              <a:path fill="lightenLess" w="145596" h="21600">
                <a:moveTo>
                  <a:pt x="0" y="0"/>
                </a:moveTo>
                <a:lnTo>
                  <a:pt x="145596" y="0"/>
                </a:lnTo>
                <a:lnTo>
                  <a:pt x="144196" y="1400"/>
                </a:lnTo>
                <a:lnTo>
                  <a:pt x="1400" y="1400"/>
                </a:lnTo>
                <a:close/>
              </a:path>
              <a:path fill="darken" w="145596" h="21600">
                <a:moveTo>
                  <a:pt x="145596" y="0"/>
                </a:moveTo>
                <a:lnTo>
                  <a:pt x="145596" y="21600"/>
                </a:lnTo>
                <a:lnTo>
                  <a:pt x="144196" y="20200"/>
                </a:lnTo>
                <a:lnTo>
                  <a:pt x="144196" y="1400"/>
                </a:lnTo>
                <a:close/>
              </a:path>
              <a:path fill="darkenLess" w="145596" h="21600">
                <a:moveTo>
                  <a:pt x="145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196" y="20200"/>
                </a:lnTo>
                <a:close/>
              </a:path>
              <a:path fill="lighten" w="145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4" name="Action Button: Custom 17">
            <a:hlinkClick r:id="rId13"/>
          </p:cNvPr>
          <p:cNvSpPr/>
          <p:nvPr/>
        </p:nvSpPr>
        <p:spPr>
          <a:xfrm>
            <a:off x="2362320" y="2133720"/>
            <a:ext cx="3047760" cy="304560"/>
          </a:xfrm>
          <a:custGeom>
            <a:avLst/>
            <a:gdLst>
              <a:gd name="textAreaLeft" fmla="*/ 19440 w 3047760"/>
              <a:gd name="textAreaRight" fmla="*/ 3028320 w 30477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5923" h="21600">
                <a:moveTo>
                  <a:pt x="0" y="0"/>
                </a:moveTo>
                <a:lnTo>
                  <a:pt x="215923" y="0"/>
                </a:lnTo>
                <a:lnTo>
                  <a:pt x="215923" y="21600"/>
                </a:lnTo>
                <a:lnTo>
                  <a:pt x="0" y="21600"/>
                </a:lnTo>
                <a:close/>
              </a:path>
              <a:path fill="lightenLess" w="215923" h="21600">
                <a:moveTo>
                  <a:pt x="0" y="0"/>
                </a:moveTo>
                <a:lnTo>
                  <a:pt x="215923" y="0"/>
                </a:lnTo>
                <a:lnTo>
                  <a:pt x="214524" y="1400"/>
                </a:lnTo>
                <a:lnTo>
                  <a:pt x="1400" y="1400"/>
                </a:lnTo>
                <a:close/>
              </a:path>
              <a:path fill="darken" w="215923" h="21600">
                <a:moveTo>
                  <a:pt x="215923" y="0"/>
                </a:moveTo>
                <a:lnTo>
                  <a:pt x="215923" y="21600"/>
                </a:lnTo>
                <a:lnTo>
                  <a:pt x="214524" y="20200"/>
                </a:lnTo>
                <a:lnTo>
                  <a:pt x="214524" y="1400"/>
                </a:lnTo>
                <a:close/>
              </a:path>
              <a:path fill="darkenLess" w="215923" h="21600">
                <a:moveTo>
                  <a:pt x="2159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24" y="20200"/>
                </a:lnTo>
                <a:close/>
              </a:path>
              <a:path fill="lighten" w="2159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5" name="Action Button: Custom 18">
            <a:hlinkClick r:id="rId14"/>
          </p:cNvPr>
          <p:cNvSpPr/>
          <p:nvPr/>
        </p:nvSpPr>
        <p:spPr>
          <a:xfrm>
            <a:off x="4419720" y="2514600"/>
            <a:ext cx="3047760" cy="304920"/>
          </a:xfrm>
          <a:custGeom>
            <a:avLst/>
            <a:gdLst>
              <a:gd name="textAreaLeft" fmla="*/ 19440 w 3047760"/>
              <a:gd name="textAreaRight" fmla="*/ 3028320 w 3047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5669" h="21600">
                <a:moveTo>
                  <a:pt x="0" y="0"/>
                </a:moveTo>
                <a:lnTo>
                  <a:pt x="215669" y="0"/>
                </a:lnTo>
                <a:lnTo>
                  <a:pt x="215669" y="21600"/>
                </a:lnTo>
                <a:lnTo>
                  <a:pt x="0" y="21600"/>
                </a:lnTo>
                <a:close/>
              </a:path>
              <a:path fill="lightenLess" w="215669" h="21600">
                <a:moveTo>
                  <a:pt x="0" y="0"/>
                </a:moveTo>
                <a:lnTo>
                  <a:pt x="215669" y="0"/>
                </a:lnTo>
                <a:lnTo>
                  <a:pt x="214269" y="1400"/>
                </a:lnTo>
                <a:lnTo>
                  <a:pt x="1400" y="1400"/>
                </a:lnTo>
                <a:close/>
              </a:path>
              <a:path fill="darken" w="215669" h="21600">
                <a:moveTo>
                  <a:pt x="215669" y="0"/>
                </a:moveTo>
                <a:lnTo>
                  <a:pt x="215669" y="21600"/>
                </a:lnTo>
                <a:lnTo>
                  <a:pt x="214269" y="20200"/>
                </a:lnTo>
                <a:lnTo>
                  <a:pt x="214269" y="1400"/>
                </a:lnTo>
                <a:close/>
              </a:path>
              <a:path fill="darkenLess" w="215669" h="21600">
                <a:moveTo>
                  <a:pt x="215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69" y="20200"/>
                </a:lnTo>
                <a:close/>
              </a:path>
              <a:path fill="lighten" w="215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6" name="Action Button: Custom 19">
            <a:hlinkClick r:id="rId15"/>
          </p:cNvPr>
          <p:cNvSpPr/>
          <p:nvPr/>
        </p:nvSpPr>
        <p:spPr>
          <a:xfrm>
            <a:off x="3657600" y="2895480"/>
            <a:ext cx="3657600" cy="228600"/>
          </a:xfrm>
          <a:custGeom>
            <a:avLst/>
            <a:gdLst>
              <a:gd name="textAreaLeft" fmla="*/ 14760 w 3657600"/>
              <a:gd name="textAreaRight" fmla="*/ 3642840 w 3657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91" h="21600">
                <a:moveTo>
                  <a:pt x="0" y="0"/>
                </a:moveTo>
                <a:lnTo>
                  <a:pt x="345091" y="0"/>
                </a:lnTo>
                <a:lnTo>
                  <a:pt x="345091" y="21600"/>
                </a:lnTo>
                <a:lnTo>
                  <a:pt x="0" y="21600"/>
                </a:lnTo>
                <a:close/>
              </a:path>
              <a:path fill="lightenLess" w="345091" h="21600">
                <a:moveTo>
                  <a:pt x="0" y="0"/>
                </a:moveTo>
                <a:lnTo>
                  <a:pt x="345091" y="0"/>
                </a:lnTo>
                <a:lnTo>
                  <a:pt x="343691" y="1400"/>
                </a:lnTo>
                <a:lnTo>
                  <a:pt x="1400" y="1400"/>
                </a:lnTo>
                <a:close/>
              </a:path>
              <a:path fill="darken" w="345091" h="21600">
                <a:moveTo>
                  <a:pt x="345091" y="0"/>
                </a:moveTo>
                <a:lnTo>
                  <a:pt x="345091" y="21600"/>
                </a:lnTo>
                <a:lnTo>
                  <a:pt x="343691" y="20200"/>
                </a:lnTo>
                <a:lnTo>
                  <a:pt x="343691" y="1400"/>
                </a:lnTo>
                <a:close/>
              </a:path>
              <a:path fill="darkenLess" w="345091" h="21600">
                <a:moveTo>
                  <a:pt x="3450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91" y="20200"/>
                </a:lnTo>
                <a:close/>
              </a:path>
              <a:path fill="lighten" w="3450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7" name="Action Button: Custom 20">
            <a:hlinkClick r:id="rId16"/>
          </p:cNvPr>
          <p:cNvSpPr/>
          <p:nvPr/>
        </p:nvSpPr>
        <p:spPr>
          <a:xfrm>
            <a:off x="2362320" y="3200400"/>
            <a:ext cx="3047760" cy="304920"/>
          </a:xfrm>
          <a:custGeom>
            <a:avLst/>
            <a:gdLst>
              <a:gd name="textAreaLeft" fmla="*/ 19440 w 3047760"/>
              <a:gd name="textAreaRight" fmla="*/ 3028320 w 3047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5669" h="21600">
                <a:moveTo>
                  <a:pt x="0" y="0"/>
                </a:moveTo>
                <a:lnTo>
                  <a:pt x="215669" y="0"/>
                </a:lnTo>
                <a:lnTo>
                  <a:pt x="215669" y="21600"/>
                </a:lnTo>
                <a:lnTo>
                  <a:pt x="0" y="21600"/>
                </a:lnTo>
                <a:close/>
              </a:path>
              <a:path fill="lightenLess" w="215669" h="21600">
                <a:moveTo>
                  <a:pt x="0" y="0"/>
                </a:moveTo>
                <a:lnTo>
                  <a:pt x="215669" y="0"/>
                </a:lnTo>
                <a:lnTo>
                  <a:pt x="214269" y="1400"/>
                </a:lnTo>
                <a:lnTo>
                  <a:pt x="1400" y="1400"/>
                </a:lnTo>
                <a:close/>
              </a:path>
              <a:path fill="darken" w="215669" h="21600">
                <a:moveTo>
                  <a:pt x="215669" y="0"/>
                </a:moveTo>
                <a:lnTo>
                  <a:pt x="215669" y="21600"/>
                </a:lnTo>
                <a:lnTo>
                  <a:pt x="214269" y="20200"/>
                </a:lnTo>
                <a:lnTo>
                  <a:pt x="214269" y="1400"/>
                </a:lnTo>
                <a:close/>
              </a:path>
              <a:path fill="darkenLess" w="215669" h="21600">
                <a:moveTo>
                  <a:pt x="215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69" y="20200"/>
                </a:lnTo>
                <a:close/>
              </a:path>
              <a:path fill="lighten" w="215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8" name="Action Button: Custom 21">
            <a:hlinkClick r:id="rId17"/>
          </p:cNvPr>
          <p:cNvSpPr/>
          <p:nvPr/>
        </p:nvSpPr>
        <p:spPr>
          <a:xfrm>
            <a:off x="2743200" y="3581280"/>
            <a:ext cx="4191120" cy="228600"/>
          </a:xfrm>
          <a:custGeom>
            <a:avLst/>
            <a:gdLst>
              <a:gd name="textAreaLeft" fmla="*/ 14760 w 4191120"/>
              <a:gd name="textAreaRight" fmla="*/ 4176360 w 4191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95423" h="21600">
                <a:moveTo>
                  <a:pt x="0" y="0"/>
                </a:moveTo>
                <a:lnTo>
                  <a:pt x="395423" y="0"/>
                </a:lnTo>
                <a:lnTo>
                  <a:pt x="395423" y="21600"/>
                </a:lnTo>
                <a:lnTo>
                  <a:pt x="0" y="21600"/>
                </a:lnTo>
                <a:close/>
              </a:path>
              <a:path fill="lightenLess" w="395423" h="21600">
                <a:moveTo>
                  <a:pt x="0" y="0"/>
                </a:moveTo>
                <a:lnTo>
                  <a:pt x="395423" y="0"/>
                </a:lnTo>
                <a:lnTo>
                  <a:pt x="394023" y="1400"/>
                </a:lnTo>
                <a:lnTo>
                  <a:pt x="1400" y="1400"/>
                </a:lnTo>
                <a:close/>
              </a:path>
              <a:path fill="darken" w="395423" h="21600">
                <a:moveTo>
                  <a:pt x="395423" y="0"/>
                </a:moveTo>
                <a:lnTo>
                  <a:pt x="395423" y="21600"/>
                </a:lnTo>
                <a:lnTo>
                  <a:pt x="394023" y="20200"/>
                </a:lnTo>
                <a:lnTo>
                  <a:pt x="394023" y="1400"/>
                </a:lnTo>
                <a:close/>
              </a:path>
              <a:path fill="darkenLess" w="395423" h="21600">
                <a:moveTo>
                  <a:pt x="395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023" y="20200"/>
                </a:lnTo>
                <a:close/>
              </a:path>
              <a:path fill="lighten" w="395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Action Button: Custom 5">
            <a:hlinkClick r:id="rId3" action="ppaction://hlinksldjump"/>
          </p:cNvPr>
          <p:cNvSpPr/>
          <p:nvPr/>
        </p:nvSpPr>
        <p:spPr>
          <a:xfrm>
            <a:off x="3505320" y="2286000"/>
            <a:ext cx="3124080" cy="4572000"/>
          </a:xfrm>
          <a:custGeom>
            <a:avLst/>
            <a:gdLst>
              <a:gd name="textAreaLeft" fmla="*/ 202320 w 3124080"/>
              <a:gd name="textAreaRight" fmla="*/ 2921760 w 3124080"/>
              <a:gd name="textAreaTop" fmla="*/ 202320 h 4572000"/>
              <a:gd name="textAreaBottom" fmla="*/ 4369680 h 4572000"/>
            </a:gdLst>
            <a:ahLst/>
            <a:rect l="textAreaLeft" t="textAreaTop" r="textAreaRight" b="textAreaBottom"/>
            <a:pathLst>
              <a:path w="21600" h="31610">
                <a:moveTo>
                  <a:pt x="0" y="0"/>
                </a:moveTo>
                <a:lnTo>
                  <a:pt x="21600" y="0"/>
                </a:lnTo>
                <a:lnTo>
                  <a:pt x="21600" y="31610"/>
                </a:lnTo>
                <a:lnTo>
                  <a:pt x="0" y="31610"/>
                </a:lnTo>
                <a:close/>
              </a:path>
              <a:path fill="lightenLess" w="21600" h="3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610">
                <a:moveTo>
                  <a:pt x="21600" y="0"/>
                </a:moveTo>
                <a:lnTo>
                  <a:pt x="21600" y="31610"/>
                </a:lnTo>
                <a:lnTo>
                  <a:pt x="20200" y="30210"/>
                </a:lnTo>
                <a:lnTo>
                  <a:pt x="20200" y="1400"/>
                </a:lnTo>
                <a:close/>
              </a:path>
              <a:path fill="darkenLess" w="21600" h="31610">
                <a:moveTo>
                  <a:pt x="21600" y="31610"/>
                </a:moveTo>
                <a:lnTo>
                  <a:pt x="0" y="31610"/>
                </a:lnTo>
                <a:lnTo>
                  <a:pt x="1400" y="30210"/>
                </a:lnTo>
                <a:lnTo>
                  <a:pt x="20200" y="30210"/>
                </a:lnTo>
                <a:close/>
              </a:path>
              <a:path fill="lighten" w="21600" h="31610">
                <a:moveTo>
                  <a:pt x="0" y="3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302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3" name="Action Button: Custom 6"/>
          <p:cNvSpPr/>
          <p:nvPr/>
        </p:nvSpPr>
        <p:spPr>
          <a:xfrm>
            <a:off x="6781680" y="2286000"/>
            <a:ext cx="2362320" cy="4572000"/>
          </a:xfrm>
          <a:custGeom>
            <a:avLst/>
            <a:gdLst>
              <a:gd name="textAreaLeft" fmla="*/ 153000 w 2362320"/>
              <a:gd name="textAreaRight" fmla="*/ 2209320 w 2362320"/>
              <a:gd name="textAreaTop" fmla="*/ 153000 h 4572000"/>
              <a:gd name="textAreaBottom" fmla="*/ 4419000 h 4572000"/>
            </a:gdLst>
            <a:ahLst/>
            <a:rect l="textAreaLeft" t="textAreaTop" r="textAreaRight" b="textAreaBottom"/>
            <a:pathLst>
              <a:path w="21600" h="41801">
                <a:moveTo>
                  <a:pt x="0" y="0"/>
                </a:moveTo>
                <a:lnTo>
                  <a:pt x="21600" y="0"/>
                </a:lnTo>
                <a:lnTo>
                  <a:pt x="21600" y="41801"/>
                </a:lnTo>
                <a:lnTo>
                  <a:pt x="0" y="41801"/>
                </a:lnTo>
                <a:close/>
              </a:path>
              <a:path fill="lightenLess" w="21600" h="4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801">
                <a:moveTo>
                  <a:pt x="21600" y="0"/>
                </a:moveTo>
                <a:lnTo>
                  <a:pt x="21600" y="41801"/>
                </a:lnTo>
                <a:lnTo>
                  <a:pt x="20200" y="40401"/>
                </a:lnTo>
                <a:lnTo>
                  <a:pt x="20200" y="1400"/>
                </a:lnTo>
                <a:close/>
              </a:path>
              <a:path fill="darkenLess" w="21600" h="41801">
                <a:moveTo>
                  <a:pt x="21600" y="41801"/>
                </a:moveTo>
                <a:lnTo>
                  <a:pt x="0" y="41801"/>
                </a:lnTo>
                <a:lnTo>
                  <a:pt x="1400" y="40401"/>
                </a:lnTo>
                <a:lnTo>
                  <a:pt x="20200" y="40401"/>
                </a:lnTo>
                <a:close/>
              </a:path>
              <a:path fill="lighten" w="21600" h="41801">
                <a:moveTo>
                  <a:pt x="0" y="4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040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4" name="Action Button: Custom 7"/>
          <p:cNvSpPr/>
          <p:nvPr/>
        </p:nvSpPr>
        <p:spPr>
          <a:xfrm>
            <a:off x="0" y="2286000"/>
            <a:ext cx="3276720" cy="4572000"/>
          </a:xfrm>
          <a:custGeom>
            <a:avLst/>
            <a:gdLst>
              <a:gd name="textAreaLeft" fmla="*/ 212040 w 3276720"/>
              <a:gd name="textAreaRight" fmla="*/ 3064680 w 3276720"/>
              <a:gd name="textAreaTop" fmla="*/ 212040 h 4572000"/>
              <a:gd name="textAreaBottom" fmla="*/ 4359960 h 457200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8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8"/>
                </a:lnTo>
                <a:lnTo>
                  <a:pt x="20200" y="28738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ET Teachers’ Doma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extensive library of free, searc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room and professional developm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urces created by KET, WGBH-Bosto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other PBS and national producers. </a:t>
            </a:r>
            <a:br>
              <a:rPr sz="20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are some of the resources that will be available in KET Teachers’ Domain this year: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 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ntucky’s Unbridled Learning PD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Scale City to Teach Proportional Reaso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acteristics of Highly Effective Teaching and Lear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 Solut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ryday Sc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nneling for 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T Arts and Culture Coll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ween the L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033" descr="Screen shot 2011-05-02 at 9"/>
          <p:cNvPicPr/>
          <p:nvPr/>
        </p:nvPicPr>
        <p:blipFill>
          <a:blip r:embed="rId1"/>
          <a:stretch/>
        </p:blipFill>
        <p:spPr>
          <a:xfrm>
            <a:off x="7848720" y="3200400"/>
            <a:ext cx="1110960" cy="3352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35" descr="Screen shot 2011-05-01 at 5"/>
          <p:cNvPicPr/>
          <p:nvPr/>
        </p:nvPicPr>
        <p:blipFill>
          <a:blip r:embed="rId2"/>
          <a:stretch/>
        </p:blipFill>
        <p:spPr>
          <a:xfrm>
            <a:off x="4876920" y="4800600"/>
            <a:ext cx="2666880" cy="150192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>
            <a:off x="5105520" y="13716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Note: This service will become PBS Learning Media in July 2012)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5105520" y="533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52" name="TextBox 5" descr=""/>
          <p:cNvPicPr/>
          <p:nvPr/>
        </p:nvPicPr>
        <p:blipFill>
          <a:blip r:embed="rId1"/>
          <a:stretch/>
        </p:blipFill>
        <p:spPr>
          <a:xfrm>
            <a:off x="30240" y="6126120"/>
            <a:ext cx="4389480" cy="579600"/>
          </a:xfrm>
          <a:prstGeom prst="rect">
            <a:avLst/>
          </a:prstGeom>
          <a:ln w="0">
            <a:noFill/>
          </a:ln>
        </p:spPr>
      </p:pic>
      <p:sp>
        <p:nvSpPr>
          <p:cNvPr id="253" name="Action Button: Custom 8"/>
          <p:cNvSpPr/>
          <p:nvPr/>
        </p:nvSpPr>
        <p:spPr>
          <a:xfrm>
            <a:off x="76320" y="6172200"/>
            <a:ext cx="3581280" cy="609480"/>
          </a:xfrm>
          <a:custGeom>
            <a:avLst/>
            <a:gdLst>
              <a:gd name="textAreaLeft" fmla="*/ 39240 w 3581280"/>
              <a:gd name="textAreaRight" fmla="*/ 3542040 w 358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26859" h="21600">
                <a:moveTo>
                  <a:pt x="0" y="0"/>
                </a:moveTo>
                <a:lnTo>
                  <a:pt x="126859" y="0"/>
                </a:lnTo>
                <a:lnTo>
                  <a:pt x="126859" y="21600"/>
                </a:lnTo>
                <a:lnTo>
                  <a:pt x="0" y="21600"/>
                </a:lnTo>
                <a:close/>
              </a:path>
              <a:path fill="lightenLess" w="126859" h="21600">
                <a:moveTo>
                  <a:pt x="0" y="0"/>
                </a:moveTo>
                <a:lnTo>
                  <a:pt x="126859" y="0"/>
                </a:lnTo>
                <a:lnTo>
                  <a:pt x="125459" y="1400"/>
                </a:lnTo>
                <a:lnTo>
                  <a:pt x="1400" y="1400"/>
                </a:lnTo>
                <a:close/>
              </a:path>
              <a:path fill="darken" w="126859" h="21600">
                <a:moveTo>
                  <a:pt x="126859" y="0"/>
                </a:moveTo>
                <a:lnTo>
                  <a:pt x="126859" y="21600"/>
                </a:lnTo>
                <a:lnTo>
                  <a:pt x="125459" y="20200"/>
                </a:lnTo>
                <a:lnTo>
                  <a:pt x="125459" y="1400"/>
                </a:lnTo>
                <a:close/>
              </a:path>
              <a:path fill="darkenLess" w="126859" h="21600">
                <a:moveTo>
                  <a:pt x="1268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459" y="20200"/>
                </a:lnTo>
                <a:close/>
              </a:path>
              <a:path fill="lighten" w="1268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54" name="Picture 10" descr=""/>
          <p:cNvPicPr/>
          <p:nvPr/>
        </p:nvPicPr>
        <p:blipFill>
          <a:blip r:embed="rId2"/>
          <a:stretch/>
        </p:blipFill>
        <p:spPr>
          <a:xfrm>
            <a:off x="0" y="1081080"/>
            <a:ext cx="9144000" cy="49388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12"/>
          <p:cNvSpPr/>
          <p:nvPr/>
        </p:nvSpPr>
        <p:spPr>
          <a:xfrm>
            <a:off x="732240" y="84240"/>
            <a:ext cx="759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KET Discovery Education</a:t>
            </a:r>
            <a:endParaRPr b="0" lang="en-US" sz="4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6" name="Curved Down Arrow 13"/>
          <p:cNvSpPr/>
          <p:nvPr/>
        </p:nvSpPr>
        <p:spPr>
          <a:xfrm>
            <a:off x="7620120" y="6172200"/>
            <a:ext cx="838080" cy="304920"/>
          </a:xfrm>
          <a:custGeom>
            <a:avLst/>
            <a:gdLst>
              <a:gd name="textAreaLeft" fmla="*/ 180720 w 838080"/>
              <a:gd name="textAreaRight" fmla="*/ 619200 w 8380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28" hR="21600" stAng="10800000" swAng="5400000"/>
                <a:lnTo>
                  <a:pt x="11291" y="0"/>
                </a:lnTo>
                <a:arcTo wR="9328" hR="21600" stAng="-5400000" swAng="3547438"/>
                <a:lnTo>
                  <a:pt x="21304" y="16200"/>
                </a:lnTo>
                <a:lnTo>
                  <a:pt x="19637" y="21600"/>
                </a:lnTo>
                <a:lnTo>
                  <a:pt x="17377" y="16200"/>
                </a:lnTo>
                <a:lnTo>
                  <a:pt x="18359" y="16200"/>
                </a:lnTo>
                <a:arcTo wR="9328" hR="21600" stAng="-1852562" swAng="-3390464"/>
                <a:lnTo>
                  <a:pt x="10309" y="120"/>
                </a:lnTo>
                <a:arcTo wR="9328" hR="21600" stAng="-5556973" swAng="-5243027"/>
                <a:close/>
              </a:path>
              <a:path fill="darkenLess" w="21600" h="21600">
                <a:moveTo>
                  <a:pt x="0" y="21600"/>
                </a:moveTo>
                <a:arcTo wR="9328" hR="21600" stAng="10800000" swAng="5400000"/>
                <a:lnTo>
                  <a:pt x="9328" y="0"/>
                </a:lnTo>
                <a:arcTo wR="9328" hR="21600" stAng="-5400000" swAng="156973"/>
                <a:lnTo>
                  <a:pt x="10309" y="120"/>
                </a:lnTo>
                <a:arcTo wR="9328" hR="21600" stAng="-5556973" swAng="-5243027"/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7" name="Curved Down Arrow 14"/>
          <p:cNvSpPr/>
          <p:nvPr/>
        </p:nvSpPr>
        <p:spPr>
          <a:xfrm rot="10800000">
            <a:off x="7772400" y="6400440"/>
            <a:ext cx="838080" cy="304920"/>
          </a:xfrm>
          <a:custGeom>
            <a:avLst/>
            <a:gdLst>
              <a:gd name="textAreaLeft" fmla="*/ 180720 w 838080"/>
              <a:gd name="textAreaRight" fmla="*/ 619200 w 8380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28" hR="21600" stAng="10800000" swAng="5400000"/>
                <a:lnTo>
                  <a:pt x="11291" y="0"/>
                </a:lnTo>
                <a:arcTo wR="9328" hR="21600" stAng="-5400000" swAng="3547438"/>
                <a:lnTo>
                  <a:pt x="21304" y="16200"/>
                </a:lnTo>
                <a:lnTo>
                  <a:pt x="19637" y="21600"/>
                </a:lnTo>
                <a:lnTo>
                  <a:pt x="17377" y="16200"/>
                </a:lnTo>
                <a:lnTo>
                  <a:pt x="18359" y="16200"/>
                </a:lnTo>
                <a:arcTo wR="9328" hR="21600" stAng="-1852562" swAng="-3390464"/>
                <a:lnTo>
                  <a:pt x="10309" y="120"/>
                </a:lnTo>
                <a:arcTo wR="9328" hR="21600" stAng="-5556973" swAng="-5243027"/>
                <a:close/>
              </a:path>
              <a:path fill="darkenLess" w="21600" h="21600">
                <a:moveTo>
                  <a:pt x="0" y="21600"/>
                </a:moveTo>
                <a:arcTo wR="9328" hR="21600" stAng="10800000" swAng="5400000"/>
                <a:lnTo>
                  <a:pt x="9328" y="0"/>
                </a:lnTo>
                <a:arcTo wR="9328" hR="21600" stAng="-5400000" swAng="156973"/>
                <a:lnTo>
                  <a:pt x="10309" y="120"/>
                </a:lnTo>
                <a:arcTo wR="9328" hR="21600" stAng="-5556973" swAng="-5243027"/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8" name="Action Button: Custom 15"/>
          <p:cNvSpPr/>
          <p:nvPr/>
        </p:nvSpPr>
        <p:spPr>
          <a:xfrm>
            <a:off x="746748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15228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Kentucky iTunes University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686800" cy="13716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"/>
          <p:cNvSpPr/>
          <p:nvPr/>
        </p:nvSpPr>
        <p:spPr>
          <a:xfrm>
            <a:off x="152280" y="213372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T is collaborating with the Kentucky Department of Education , University of Kentucky  and other agencies to create the KY.P20/ NxGL media collection on iTunes University.  Some of the featured  resources on this service are: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veryday Science for Preschooler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ater Solution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ntucky  Authors’ Forum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el Vi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ependent film serie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y M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ts serie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ealth 36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other health related documentarie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wQuiz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y Lif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ouisville Life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 on this link to go directly to the collection: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itunes.apple.com/us/institution/kentucky/id4118060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 can also simply go to the iTunes store and click on the “iTunes U” link, then click on “K-12” and finally click on the “Kentucky” collection. 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ET ED On Demand</a:t>
            </a:r>
            <a:br>
              <a:rPr sz="44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nline streaming of P-12 instructional programs for Kentucky public schools and teacher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0" y="297144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300 hours of instructional program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100 educational series avail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0 episodes of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ading Rainb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KET_ED_OnDemand"/>
          <p:cNvPicPr/>
          <p:nvPr/>
        </p:nvPicPr>
        <p:blipFill>
          <a:blip r:embed="rId1"/>
          <a:stretch/>
        </p:blipFill>
        <p:spPr>
          <a:xfrm>
            <a:off x="457200" y="3124080"/>
            <a:ext cx="4038480" cy="17622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link.png"/>
          <p:cNvPicPr/>
          <p:nvPr/>
        </p:nvPicPr>
        <p:blipFill>
          <a:blip r:embed="rId2"/>
          <a:stretch/>
        </p:blipFill>
        <p:spPr>
          <a:xfrm>
            <a:off x="8381880" y="6324480"/>
            <a:ext cx="493920" cy="42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School Servi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4800600" y="1295280"/>
            <a:ext cx="4343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a Lab Workshop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ool Video Project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media PD Event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ool Workshop/Training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T Education Blog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ool Visits/Consultation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T KY Blockfeed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68" name="Picture 5" descr="edconmap"/>
          <p:cNvPicPr/>
          <p:nvPr/>
        </p:nvPicPr>
        <p:blipFill>
          <a:blip r:embed="rId1"/>
          <a:stretch/>
        </p:blipFill>
        <p:spPr>
          <a:xfrm>
            <a:off x="304920" y="1828800"/>
            <a:ext cx="4419360" cy="198900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7"/>
          <p:cNvSpPr/>
          <p:nvPr/>
        </p:nvSpPr>
        <p:spPr>
          <a:xfrm>
            <a:off x="152280" y="3886200"/>
            <a:ext cx="46483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Education Consultant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www.ket.org/contact/education.htm </a:t>
            </a:r>
            <a:endParaRPr b="0" lang="en-US" sz="2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KET Media Lab Workshop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ough a generous grant from AT&amp;T, KET now off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re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rkshops for educators, students, and community organizations in th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T Media La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KET Network Center in Lexington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inings offered includ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enscreen Effects for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ogle Resources for Educ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shop El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It Yourself Electronic Field Tr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Storytel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ing Stop-Motion Ani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e a Virtual Art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ARTboard with KET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more information, vis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ket.org/education/medialab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6" descr="mlab_cwarner1.jpg"/>
          <p:cNvPicPr/>
          <p:nvPr/>
        </p:nvPicPr>
        <p:blipFill>
          <a:blip r:embed="rId1"/>
          <a:stretch/>
        </p:blipFill>
        <p:spPr>
          <a:xfrm>
            <a:off x="5407200" y="1676520"/>
            <a:ext cx="3279600" cy="21286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Screen shot 2011-05-02 at 2"/>
          <p:cNvPicPr/>
          <p:nvPr/>
        </p:nvPicPr>
        <p:blipFill>
          <a:blip r:embed="rId2"/>
          <a:stretch/>
        </p:blipFill>
        <p:spPr>
          <a:xfrm>
            <a:off x="5181480" y="4191120"/>
            <a:ext cx="3778200" cy="230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371600"/>
            <a:ext cx="853416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Presenter today is:  Larry Mo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228600" y="213372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day’s presentation is practically paper-free!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 more information about the resources presented today, go to this website: http://www.lmooreketresources.wikispaces.com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0" name="Action Button: Custom 7">
            <a:hlinkClick r:id="rId1"/>
          </p:cNvPr>
          <p:cNvSpPr/>
          <p:nvPr/>
        </p:nvSpPr>
        <p:spPr>
          <a:xfrm>
            <a:off x="246240" y="2133720"/>
            <a:ext cx="7924680" cy="1218960"/>
          </a:xfrm>
          <a:custGeom>
            <a:avLst/>
            <a:gdLst>
              <a:gd name="textAreaLeft" fmla="*/ 78840 w 7924680"/>
              <a:gd name="textAreaRight" fmla="*/ 7845840 w 792468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140390" h="21600">
                <a:moveTo>
                  <a:pt x="0" y="0"/>
                </a:moveTo>
                <a:lnTo>
                  <a:pt x="140390" y="0"/>
                </a:lnTo>
                <a:lnTo>
                  <a:pt x="140390" y="21600"/>
                </a:lnTo>
                <a:lnTo>
                  <a:pt x="0" y="21600"/>
                </a:lnTo>
                <a:close/>
              </a:path>
              <a:path fill="lightenLess" w="140390" h="21600">
                <a:moveTo>
                  <a:pt x="0" y="0"/>
                </a:moveTo>
                <a:lnTo>
                  <a:pt x="140390" y="0"/>
                </a:lnTo>
                <a:lnTo>
                  <a:pt x="138990" y="1400"/>
                </a:lnTo>
                <a:lnTo>
                  <a:pt x="1400" y="1400"/>
                </a:lnTo>
                <a:close/>
              </a:path>
              <a:path fill="darken" w="140390" h="21600">
                <a:moveTo>
                  <a:pt x="140390" y="0"/>
                </a:moveTo>
                <a:lnTo>
                  <a:pt x="140390" y="21600"/>
                </a:lnTo>
                <a:lnTo>
                  <a:pt x="138990" y="20200"/>
                </a:lnTo>
                <a:lnTo>
                  <a:pt x="138990" y="1400"/>
                </a:lnTo>
                <a:close/>
              </a:path>
              <a:path fill="darkenLess" w="140390" h="21600">
                <a:moveTo>
                  <a:pt x="140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990" y="20200"/>
                </a:lnTo>
                <a:close/>
              </a:path>
              <a:path fill="lighten" w="140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0" y="22212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1616"/>
                </a:solidFill>
                <a:latin typeface="Agency FB"/>
              </a:rPr>
              <a:t>Exploring the Depths! KET’s New Online Resources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2" name="Picture 8" descr="C:\Documents and Settings\larry.moore.KET\Local Settings\Temporary Internet Files\Content.IE5\SZCA89FD\MC900390686[1].wmf"/>
          <p:cNvPicPr/>
          <p:nvPr/>
        </p:nvPicPr>
        <p:blipFill>
          <a:blip r:embed="rId2"/>
          <a:stretch/>
        </p:blipFill>
        <p:spPr>
          <a:xfrm>
            <a:off x="-76320" y="3992400"/>
            <a:ext cx="3200400" cy="2697480"/>
          </a:xfrm>
          <a:prstGeom prst="rect">
            <a:avLst/>
          </a:prstGeom>
          <a:ln w="0">
            <a:noFill/>
          </a:ln>
        </p:spPr>
      </p:pic>
      <p:sp>
        <p:nvSpPr>
          <p:cNvPr id="183" name="Oval 9"/>
          <p:cNvSpPr/>
          <p:nvPr/>
        </p:nvSpPr>
        <p:spPr>
          <a:xfrm>
            <a:off x="3124080" y="5029200"/>
            <a:ext cx="7632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3200400" y="4876920"/>
            <a:ext cx="76320" cy="759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5" name="Oval 11"/>
          <p:cNvSpPr/>
          <p:nvPr/>
        </p:nvSpPr>
        <p:spPr>
          <a:xfrm>
            <a:off x="3276720" y="4591080"/>
            <a:ext cx="152280" cy="152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6" name="Oval 12"/>
          <p:cNvSpPr/>
          <p:nvPr/>
        </p:nvSpPr>
        <p:spPr>
          <a:xfrm>
            <a:off x="3048120" y="5181480"/>
            <a:ext cx="7596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7" name="Oval 13"/>
          <p:cNvSpPr/>
          <p:nvPr/>
        </p:nvSpPr>
        <p:spPr>
          <a:xfrm>
            <a:off x="3581280" y="4114800"/>
            <a:ext cx="228600" cy="2286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8" name="Oval 14"/>
          <p:cNvSpPr/>
          <p:nvPr/>
        </p:nvSpPr>
        <p:spPr>
          <a:xfrm>
            <a:off x="3429000" y="4419720"/>
            <a:ext cx="152280" cy="152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9" name="Oval 15"/>
          <p:cNvSpPr/>
          <p:nvPr/>
        </p:nvSpPr>
        <p:spPr>
          <a:xfrm>
            <a:off x="1066680" y="4197240"/>
            <a:ext cx="7632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0" name="Oval 16"/>
          <p:cNvSpPr/>
          <p:nvPr/>
        </p:nvSpPr>
        <p:spPr>
          <a:xfrm>
            <a:off x="1327320" y="3505320"/>
            <a:ext cx="215640" cy="2127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1" name="Oval 17"/>
          <p:cNvSpPr/>
          <p:nvPr/>
        </p:nvSpPr>
        <p:spPr>
          <a:xfrm>
            <a:off x="1130400" y="3962520"/>
            <a:ext cx="152280" cy="152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2" name="Oval 18"/>
          <p:cNvSpPr/>
          <p:nvPr/>
        </p:nvSpPr>
        <p:spPr>
          <a:xfrm>
            <a:off x="1251000" y="3760920"/>
            <a:ext cx="152280" cy="152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3" name="Rectangle 1"/>
          <p:cNvSpPr/>
          <p:nvPr/>
        </p:nvSpPr>
        <p:spPr>
          <a:xfrm>
            <a:off x="2514600" y="35053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ttp://www.lmooreketresources.wikispaces.com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4" name="Action Button: Custom 2">
            <a:hlinkClick r:id="rId3"/>
          </p:cNvPr>
          <p:cNvSpPr/>
          <p:nvPr/>
        </p:nvSpPr>
        <p:spPr>
          <a:xfrm>
            <a:off x="2514600" y="3435480"/>
            <a:ext cx="6019920" cy="527040"/>
          </a:xfrm>
          <a:custGeom>
            <a:avLst/>
            <a:gdLst>
              <a:gd name="textAreaLeft" fmla="*/ 33840 w 6019920"/>
              <a:gd name="textAreaRight" fmla="*/ 5986080 w 6019920"/>
              <a:gd name="textAreaTop" fmla="*/ 33840 h 527040"/>
              <a:gd name="textAreaBottom" fmla="*/ 493200 h 527040"/>
            </a:gdLst>
            <a:ahLst/>
            <a:rect l="textAreaLeft" t="textAreaTop" r="textAreaRight" b="textAreaBottom"/>
            <a:pathLst>
              <a:path w="246564" h="21600">
                <a:moveTo>
                  <a:pt x="0" y="0"/>
                </a:moveTo>
                <a:lnTo>
                  <a:pt x="246564" y="0"/>
                </a:lnTo>
                <a:lnTo>
                  <a:pt x="246564" y="21600"/>
                </a:lnTo>
                <a:lnTo>
                  <a:pt x="0" y="21600"/>
                </a:lnTo>
                <a:close/>
              </a:path>
              <a:path fill="lightenLess" w="246564" h="21600">
                <a:moveTo>
                  <a:pt x="0" y="0"/>
                </a:moveTo>
                <a:lnTo>
                  <a:pt x="246564" y="0"/>
                </a:lnTo>
                <a:lnTo>
                  <a:pt x="245164" y="1400"/>
                </a:lnTo>
                <a:lnTo>
                  <a:pt x="1400" y="1400"/>
                </a:lnTo>
                <a:close/>
              </a:path>
              <a:path fill="darken" w="246564" h="21600">
                <a:moveTo>
                  <a:pt x="246564" y="0"/>
                </a:moveTo>
                <a:lnTo>
                  <a:pt x="246564" y="21600"/>
                </a:lnTo>
                <a:lnTo>
                  <a:pt x="245164" y="20200"/>
                </a:lnTo>
                <a:lnTo>
                  <a:pt x="245164" y="1400"/>
                </a:lnTo>
                <a:close/>
              </a:path>
              <a:path fill="darkenLess" w="246564" h="21600">
                <a:moveTo>
                  <a:pt x="246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64" y="20200"/>
                </a:lnTo>
                <a:close/>
              </a:path>
              <a:path fill="lighten" w="246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Effective Use Of Video Learning Objects in Your Classroom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ing Instructional Video (ITV) into Your Lesson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boy at aquarium.jpg"/>
          <p:cNvPicPr/>
          <p:nvPr/>
        </p:nvPicPr>
        <p:blipFill>
          <a:blip r:embed="rId1"/>
          <a:stretch/>
        </p:blipFill>
        <p:spPr>
          <a:xfrm>
            <a:off x="2438280" y="3200400"/>
            <a:ext cx="4191120" cy="31114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4"/>
          <p:cNvSpPr/>
          <p:nvPr/>
        </p:nvSpPr>
        <p:spPr>
          <a:xfrm>
            <a:off x="2514600" y="586728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y Watching Sharks in Aquari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  Corbis, 2011. Ima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 February 2011. &lt;http://www.discoveryeducation.com/&gt;. </a:t>
            </a:r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The Proces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obj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media needs based on obj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e, PREVIEW,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wnload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ign lesso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e objective to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0060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view activity to introduce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cus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ruction using med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llow-up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t-viewing activity for 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llow-up and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5" descr="MCj02335950000[1]"/>
          <p:cNvPicPr/>
          <p:nvPr/>
        </p:nvPicPr>
        <p:blipFill>
          <a:blip r:embed="rId1"/>
          <a:stretch/>
        </p:blipFill>
        <p:spPr>
          <a:xfrm>
            <a:off x="7315200" y="0"/>
            <a:ext cx="16192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76240" y="137124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re students know what you expect them to learn from the media and for what they are responsi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e them to learn by using a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activity to connect to pri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e a graphic organiz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to help them record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analyze information the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see in the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338640" y="152280"/>
            <a:ext cx="246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Frame</a:t>
            </a:r>
            <a:endParaRPr b="0" lang="en-US" sz="6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05" name="Picture 3" descr="C:\Documents and Settings\larry.moore.KET\Local Settings\Temporary Internet Files\Content.IE5\L9NC444U\MP900407401[1].jpg"/>
          <p:cNvPicPr/>
          <p:nvPr/>
        </p:nvPicPr>
        <p:blipFill>
          <a:blip r:embed="rId1"/>
          <a:stretch/>
        </p:blipFill>
        <p:spPr>
          <a:xfrm>
            <a:off x="6400800" y="3581280"/>
            <a:ext cx="2362320" cy="29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Focus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turn off all the lights if possib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with your students. (model the desired behavi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power of your media player to use the media interactively and point out important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“Thumbs up” technique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 organizers, etc. 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2" descr="C:\Documents and Settings\larry.moore.KET\Local Settings\Temporary Internet Files\Content.IE5\L9NC444U\MP900438755[1].jpg"/>
          <p:cNvPicPr/>
          <p:nvPr/>
        </p:nvPicPr>
        <p:blipFill>
          <a:blip r:embed="rId1"/>
          <a:stretch/>
        </p:blipFill>
        <p:spPr>
          <a:xfrm>
            <a:off x="6400800" y="4572000"/>
            <a:ext cx="2562120" cy="1924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Follow-up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75960" y="12952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-up the media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the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te discu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tudents accountabl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for the media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 the learning and involv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other modalities throug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kinesthetic and immersion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girl with camera Flickr chrissschuepp.jpg"/>
          <p:cNvPicPr/>
          <p:nvPr/>
        </p:nvPicPr>
        <p:blipFill>
          <a:blip r:embed="rId1"/>
          <a:stretch/>
        </p:blipFill>
        <p:spPr>
          <a:xfrm>
            <a:off x="6302520" y="1143000"/>
            <a:ext cx="2679480" cy="19810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6257160" y="3124080"/>
            <a:ext cx="29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lickrCreativeCommons by chrisschuepp</a:t>
            </a:r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214" name="Action Button: Custom 8">
            <a:hlinkClick r:id="rId2"/>
          </p:cNvPr>
          <p:cNvSpPr/>
          <p:nvPr/>
        </p:nvSpPr>
        <p:spPr>
          <a:xfrm>
            <a:off x="1600200" y="6095880"/>
            <a:ext cx="6553080" cy="685800"/>
          </a:xfrm>
          <a:custGeom>
            <a:avLst/>
            <a:gdLst>
              <a:gd name="textAreaLeft" fmla="*/ 44280 w 6553080"/>
              <a:gd name="textAreaRight" fmla="*/ 6508800 w 6553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06299" h="21600">
                <a:moveTo>
                  <a:pt x="0" y="0"/>
                </a:moveTo>
                <a:lnTo>
                  <a:pt x="206299" y="0"/>
                </a:lnTo>
                <a:lnTo>
                  <a:pt x="206299" y="21600"/>
                </a:lnTo>
                <a:lnTo>
                  <a:pt x="0" y="21600"/>
                </a:lnTo>
                <a:close/>
              </a:path>
              <a:path fill="lightenLess" w="206299" h="21600">
                <a:moveTo>
                  <a:pt x="0" y="0"/>
                </a:moveTo>
                <a:lnTo>
                  <a:pt x="206299" y="0"/>
                </a:lnTo>
                <a:lnTo>
                  <a:pt x="204899" y="1400"/>
                </a:lnTo>
                <a:lnTo>
                  <a:pt x="1400" y="1400"/>
                </a:lnTo>
                <a:close/>
              </a:path>
              <a:path fill="darken" w="206299" h="21600">
                <a:moveTo>
                  <a:pt x="206299" y="0"/>
                </a:moveTo>
                <a:lnTo>
                  <a:pt x="206299" y="21600"/>
                </a:lnTo>
                <a:lnTo>
                  <a:pt x="204899" y="20200"/>
                </a:lnTo>
                <a:lnTo>
                  <a:pt x="204899" y="1400"/>
                </a:lnTo>
                <a:close/>
              </a:path>
              <a:path fill="darkenLess" w="206299" h="21600">
                <a:moveTo>
                  <a:pt x="2062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899" y="20200"/>
                </a:lnTo>
                <a:close/>
              </a:path>
              <a:path fill="lighten" w="2062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600200" y="6095520"/>
            <a:ext cx="64008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KET.ORG/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"/>
          <p:cNvSpPr/>
          <p:nvPr/>
        </p:nvSpPr>
        <p:spPr>
          <a:xfrm>
            <a:off x="2666880" y="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et’s Explore!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99720"/>
            <a:ext cx="853452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ssion US: For Crown or Colony (Gr. 5-8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ww.mission-us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220" name="Action Button: Custom 3">
            <a:hlinkClick r:id="rId3"/>
          </p:cNvPr>
          <p:cNvSpPr/>
          <p:nvPr/>
        </p:nvSpPr>
        <p:spPr>
          <a:xfrm>
            <a:off x="2362320" y="609480"/>
            <a:ext cx="4495680" cy="533520"/>
          </a:xfrm>
          <a:custGeom>
            <a:avLst/>
            <a:gdLst>
              <a:gd name="textAreaLeft" fmla="*/ 34560 w 4495680"/>
              <a:gd name="textAreaRight" fmla="*/ 4461120 w 4495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81903" h="21600">
                <a:moveTo>
                  <a:pt x="0" y="0"/>
                </a:moveTo>
                <a:lnTo>
                  <a:pt x="181903" y="0"/>
                </a:lnTo>
                <a:lnTo>
                  <a:pt x="181903" y="21600"/>
                </a:lnTo>
                <a:lnTo>
                  <a:pt x="0" y="21600"/>
                </a:lnTo>
                <a:close/>
              </a:path>
              <a:path fill="lightenLess" w="181903" h="21600">
                <a:moveTo>
                  <a:pt x="0" y="0"/>
                </a:moveTo>
                <a:lnTo>
                  <a:pt x="181903" y="0"/>
                </a:lnTo>
                <a:lnTo>
                  <a:pt x="180503" y="1400"/>
                </a:lnTo>
                <a:lnTo>
                  <a:pt x="1400" y="1400"/>
                </a:lnTo>
                <a:close/>
              </a:path>
              <a:path fill="darken" w="181903" h="21600">
                <a:moveTo>
                  <a:pt x="181903" y="0"/>
                </a:moveTo>
                <a:lnTo>
                  <a:pt x="181903" y="21600"/>
                </a:lnTo>
                <a:lnTo>
                  <a:pt x="180503" y="20200"/>
                </a:lnTo>
                <a:lnTo>
                  <a:pt x="180503" y="1400"/>
                </a:lnTo>
                <a:close/>
              </a:path>
              <a:path fill="darkenLess" w="181903" h="21600">
                <a:moveTo>
                  <a:pt x="181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0503" y="20200"/>
                </a:lnTo>
                <a:close/>
              </a:path>
              <a:path fill="lighten" w="181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38:06Z</dcterms:created>
  <dc:creator>Missi Baker</dc:creator>
  <dc:description/>
  <dc:language>en-US</dc:language>
  <cp:lastModifiedBy>Larry.Moore</cp:lastModifiedBy>
  <dcterms:modified xsi:type="dcterms:W3CDTF">2012-04-09T17:19:29Z</dcterms:modified>
  <cp:revision>538</cp:revision>
  <dc:subject/>
  <dc:title>Slide 1</dc:title>
</cp:coreProperties>
</file>